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4267-E391-4E4A-862E-02387CE3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100E-7E35-48E7-A289-6919C64F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0EBA-E250-4841-9A72-7C5231A6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57B7-C916-450A-9D8B-7CB25468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B356-193E-49FB-BD98-A70A5091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4105-CA96-45B2-9F48-03180600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EC95-B90E-4D73-B1AE-FA4DC75F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42C9-71FC-4CD2-9583-56D3E6CE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7358-47E9-43A7-8C55-D4E65414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D0D5-393B-4A8A-BF09-ADBB2257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BA62-574F-4081-A4AB-CA5F5A2A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F2A6-E398-42C7-826E-D16EF4F8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9EDB-88B2-4152-8265-87AC291D0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4-05T00:24:49Z</dcterms:modified>
  <cp:revision>25</cp:revision>
  <dc:subject/>
  <dc:title>TITLE</dc:title>
</cp:coreProperties>
</file>